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5FB-CBFF-4CC9-9015-EEA06216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AA3-1294-4C01-8BAB-06A9573D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353-B100-4754-B869-AC35A539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BBB-B048-4D24-AE42-C6D0085E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524-BFF0-4543-8B68-3F2C2300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3AD-1400-4A8C-9A39-0F4353B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A50-AD69-4082-8291-713627BF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E58-6538-4787-BD35-C1753797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5F5-EE7E-4B14-A607-5D4CAA4A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E15-1D22-4707-9E54-24D3C89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B64-380D-41C3-9D42-45CFE8FC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986-8B36-424C-8F27-6C957AA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441-8EA1-4BF3-AC15-DB2CC8838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2/Ural_mountains_448118784_97386d9aac_b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/imgres?imgurl=http://action.walmartwatch.com/page/-/blog/thumbs%2520up.jpg&amp;imgrefurl=http://walmartwatch.com/blog/tags/tag/pr/&amp;usg=__G7jdQQE1Vb5TutD7-74kychr7rU=&amp;h=320&amp;w=320&amp;sz=36&amp;hl=en&amp;start=34&amp;zoom=1&amp;um=1&amp;itbs=1&amp;tbnid=Snp4BfHeRDaGlM:&amp;tbnh=118&amp;tbnw=118&amp;prev=/images%3Fq%3Dthumbs%2Bup%26start%3D20%26um%3D1%26hl%3Den%26sa%3DN%26rlz%3D1R2ADSA_enUS363%26ndsp%3D20%26tbs%3Disch: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imgres?imgurl=http://www.clipartguide.com/_small/0808-0710-2914-4647.jpg&amp;imgrefurl=http://www.clipartguide.com/_pages/0808-0710-2914-4647.html&amp;usg=__L_gsxl4TM7YKOww11ntEbouHoMw=&amp;h=300&amp;w=300&amp;sz=5&amp;hl=en&amp;start=33&amp;zoom=1&amp;um=1&amp;itbs=1&amp;tbnid=p-GN-w-MPqAaNM:&amp;tbnh=116&amp;tbnw=116&amp;prev=/images%3Fq%3Dcheck%2Bmark%26start%3D20%26um%3D1%26hl%3Den%26sa%3DN%26rlz%3D1R2ADSA_enUS363%26ndsp%3D20%26tbs%3Disch: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pbf.org/images/Russia.gif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e-architect.co.uk/images/jpgs/moscow/russia_tower_fosters_oct07_4.jpg&amp;imgrefurl=http://www.e-architect.co.uk/moscow/russia_tower.htm&amp;usg=__k_f-SSwRd0_BMuCa8DvED1YnXY8=&amp;h=1000&amp;w=500&amp;sz=49&amp;hl=en&amp;start=12&amp;zoom=1&amp;itbs=1&amp;tbnid=C-J8fZYhz3QvyM:&amp;tbnh=149&amp;tbnw=75&amp;prev=/images%3Fq%3Drussia%26hl%3Den%26tbs%3Disch:1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bugbog.com/images/galleries/russia_pictures/russia_pictures_do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2286000"/>
            <a:ext cx="430524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 in Rus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457200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emilia Kapica, Nina Luu, Kevin Do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1597 C 0.01944 0.00255 0.02656 -0.01204 0.03351 -0.03079 C 0.05243 -0.08403 0.05747 -0.13611 0.04358 -0.14398 C 0.02951 -0.15347 0.00243 -0.11597 -0.01649 -0.06273 C -0.02656 -0.03472 -0.03247 -0.0081 -0.03455 0.01204 C -0.0375 0.02801 -0.03854 0.04398 -0.03854 0.06273 C -0.03854 0.12269 -0.02552 0.17199 -0.01042 0.17199 C 0.00451 0.17199 0.01753 0.12269 0.01753 0.06273 C 0.01753 0.03472 0.01458 0.00787 0.00955 -0.01065 C 0.00747 -0.02662 0.00243 -0.04398 -0.00347 -0.06134 C -0.02344 -0.11597 -0.05052 -0.15347 -0.06458 -0.14398 C -0.07847 -0.13472 -0.07344 -0.08403 -0.05347 -0.0294 C -0.04549 -0.00394 -0.03455 0.01736 -0.02344 0.03194 C -0.01545 0.04537 -0.00642 0.05741 0.00556 0.06921 C 0.04149 0.10787 0.07743 0.12523 0.0875 0.10926 C 0.09653 0.09329 0.07656 0.04931 0.04045 0.01204 C 0.02552 -0.00394 0.00955 -0.01597 -0.00347 -0.02407 C -0.01545 -0.03194 -0.03056 -0.03866 -0.04653 -0.04259 C -0.09045 -0.05602 -0.12847 -0.05208 -0.13142 -0.03079 C -0.13542 -0.01065 -0.10243 0.01597 -0.05851 0.0294 C -0.03854 0.03472 -0.01944 0.03727 -0.00451 0.03588 C 0.00851 0.03588 0.02257 0.03333 0.0375 0.0294 C 0.08142 0.01597 0.11458 -0.01204 0.11042 -0.03194 C 0.10747 -0.05208 0.06944 -0.05741 0.02552 -0.04398 C 0.00451 -0.03727 -0.01458 -0.02801 -0.02743 -0.01736 C -0.03854 -0.00926 -0.04948 0 -0.06146 0.01204 C -0.09653 0.05069 -0.11753 0.09329 -0.10747 0.10926 C -0.09844 0.12523 -0.06146 0.10787 -0.02656 0.0706 C -0.00955 0.05208 0.00451 0.03333 0.0125 0.01597 Z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1 0.06782 C -0.04306 0.01828 -0.04184 -0.03149 -0.0408 -0.08102 C -0.04062 -0.08912 -0.04045 -0.06482 -0.03924 -0.05672 C -0.03837 -0.05047 -0.03576 -0.04491 -0.0342 -0.03889 C -0.02708 -0.0125 -0.02014 0.01134 -0.0158 0.03888 C -0.01372 0.00902 -0.0158 0.02384 -0.0092 -0.00556 C -0.00833 -0.00926 -0.00816 -0.01297 -0.00747 -0.01667 C -0.0066 -0.0213 -0.00417 -0.0301 -0.00417 -0.0301 C -0.00191 -0.0551 -0.00243 -0.04329 -0.00243 -0.06551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419112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47920" y="533520"/>
            <a:ext cx="61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d about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lots of mountains in Russia and not a lot of land to plants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Ural Mountains, it is harder to travel to eastern and western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, Mt. Elbrus, is part of ring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nd for farming but it is too cold for planting c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43 0.12431 C -0.09808 0.10996 -0.10069 0.03889 -0.09166 0.0176 C -0.09045 0.01505 -0.08819 0.01366 -0.0868 0.01111 C -0.08524 0.00834 -0.08454 0.0051 -0.08333 0.00209 C -0.08281 -0.00162 -0.08246 -0.00532 -0.08176 -0.00903 C -0.08142 -0.01134 -0.08072 -0.01782 -0.08003 -0.01574 C -0.07829 -0.01088 -0.07899 -0.00532 -0.07847 -2.59259E-006 C -0.07673 0.01597 -0.07551 0.02847 -0.06666 0.03982 C -0.0611 0.05834 -0.0519 0.0706 -0.04166 0.08426 C -0.03819 0.08889 -0.03576 0.09676 -0.03176 0.1 C -0.02881 0.10255 -0.02499 0.10278 -0.0217 0.1044 C 0.01355 0.09607 8.05556E-006 0.03635 8.05556E-006 -2.59259E-006 E"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want to travel to eastern Russia they could take a plane over the Ural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one of the deepest freshwater lakes, so if something gets into there drinking water, they could drink out of that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228600"/>
            <a:ext cx="853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the Russian people adapted to the bad l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7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rot="357600">
            <a:off x="4724280" y="4648320"/>
            <a:ext cx="34387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0.04885 C -0.31024 0.03635 -0.30538 0.03287 -0.29496 0.02431 C -0.28767 0.01829 -0.28246 0.00787 -0.275 0.00209 C -0.26545 -0.00532 -0.25608 -0.00995 -0.24653 -0.01782 C -0.24132 -0.02222 -0.23542 -0.02523 -0.22986 -0.02893 C -0.22743 -0.03055 -0.22569 -0.03379 -0.22326 -0.03565 C -0.21892 -0.03889 -0.2099 -0.04444 -0.2099 -0.04444 C -0.20469 -0.05393 -0.20156 -0.05648 -0.19323 -0.05995 C -0.18941 -0.05254 -0.18316 -0.04768 -0.17986 -0.04004 C -0.17569 -0.03055 -0.1724 -0.02152 -0.16996 -0.01111 C -0.17135 0.00903 -0.17344 0.0213 -0.1816 0.03773 C -0.19323 -0.00717 -0.16805 -0.02639 -0.14167 -0.03773 C -0.12691 -0.03657 -0.11493 -0.04166 -0.10486 -0.02893 C -0.10295 -0.0206 -0.09913 -0.01481 -0.09653 -0.00671 C -0.09462 -0.00092 -0.09392 0.00764 -0.09323 0.0132 C -0.0908 0.00834 -0.08924 0.00255 -0.08663 -0.00231 C -0.08264 -0.00949 -0.07049 -0.0206 -0.06667 -0.02453 C -0.06233 -0.02893 -0.05156 -0.03333 -0.05156 -0.03333 C -0.03594 -0.03264 -0.02014 -0.03541 -0.00486 -0.03125 C -0.00208 -0.03055 -0.00382 -0.02384 -0.0033 -0.02014 C -0.00226 -0.01319 2.77778E-006 -0.00694 2.77778E-006 3.7037E-007 E"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has two plains that are very good for pl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river that are navig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navigable rivers tourists can get in and out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52280"/>
            <a:ext cx="876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good things about the land in Rus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t0.gstatic.com/images?q=tbn:Snp4BfHeRDaGlM: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4267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0.0595 C -0.21128 0.03635 -0.21215 0.01204 -0.19253 0.00394 C -0.1875 -0.00046 -0.18489 -0.00486 -0.17916 -0.00717 C -0.16527 -0.00648 -0.15139 -0.00694 -0.1375 -0.00509 C -0.13246 -0.00439 -0.125 0.00348 -0.12083 0.00602 C -0.1118 0.01135 -0.10277 0.01528 -0.09409 0.02176 C -0.08767 0.02639 -0.08281 0.03218 -0.07586 0.03496 C -0.06718 0.0426 -0.06875 0.04352 -0.05746 0.04838 C -0.04861 0.05741 -0.03663 0.06389 -0.02586 0.06829 C -0.01302 0.06297 -0.0276 0.07107 -0.01909 0.0595 C -0.01232 0.05024 -0.01024 0.0507 -0.00243 0.04838 C 0.01077 0.03496 0.01424 0.03612 0.02257 0.01505 C 0.025 0.000699999999999999 0.02205 -0.01435 0.01077 -0.0206 C 0.00539 -0.02361 -0.00034 -0.02476 -0.0059 -0.02731 C -0.00746 -0.028 -0.01076 -0.02939 -0.01076 -0.02939 C -0.02239 -0.0287 -0.0342 -0.02916 -0.04583 -0.02731 C -0.05052 -0.02662 -0.06458 -0.00625 -0.06753 -0.00046 C -0.075 0.02963 -0.07326 0.06459 -0.04757 0.07269 C -0.01927 0.09213 0.01545 0.08334 0.04584 0.07269 C 0.04809 0.06412 0.04757 0.06852 0.04757 0.0595 E">
                                      <p:cBhvr>
                                        <p:cTn id="7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95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good navigable rivers in Russi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 plains,  in Russia, its good for farm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ecause of how cold it is in Russia, the rivers are froz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so cold in Russia, so you cant farm on the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90920" y="38088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clusion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7" descr="http://t1.gstatic.com/images?q=tbn:p-GN-w-MPqAaNM:">
            <a:hlinkClick r:id="rId2"/>
          </p:cNvPr>
          <p:cNvPicPr/>
          <p:nvPr/>
        </p:nvPicPr>
        <p:blipFill>
          <a:blip r:embed="rId3"/>
          <a:stretch/>
        </p:blipFill>
        <p:spPr>
          <a:xfrm rot="1014000">
            <a:off x="1828440" y="464796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law.columbia.edu/ipimages/Information_technology/images/CheckMarkX.jpg"/>
          <p:cNvPicPr/>
          <p:nvPr/>
        </p:nvPicPr>
        <p:blipFill>
          <a:blip r:embed="rId4"/>
          <a:stretch/>
        </p:blipFill>
        <p:spPr>
          <a:xfrm rot="20660400">
            <a:off x="6095520" y="4876560"/>
            <a:ext cx="16765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 0.04236 C -0.04288 0.02754 -0.04253 0.01273 -0.04166 -0.00232 C -0.03993 -0.02894 -0.01614 -0.07338 0.0033 -0.08218 C 0.01042 -0.09167 0.02032 -0.10463 0.02986 -0.1088 C 0.0349 -0.11528 0.03802 -0.11783 0.04497 -0.11991 C 0.05174 -0.12894 0.05469 -0.12732 0.0632 -0.13102 C 0.06875 -0.12963 0.07466 -0.1294 0.07986 -0.12662 C 0.0908 -0.12107 0.09792 -0.10695 0.10834 -0.10209 C 0.11806 -0.0831 0.10486 -0.10602 0.11667 -0.09329 C 0.11997 -0.08959 0.12188 -0.08403 0.125 -0.07986 C 0.12865 -0.06528 0.13368 -0.05278 0.13663 -0.03773 C 0.13611 -0.02662 0.13681 -0.01528 0.1349 -0.0044 C 0.13368 0.00254 0.12049 0.01088 0.11493 0.01342 C 0.09601 0.01273 0.07726 0.01227 0.05834 0.01111 C 0.0375 0.00972 0.03785 -0.00394 0.025 -0.01783 C 0.01598 -0.02755 0.00955 -0.0382 0.00157 -0.04885 C 0.00104 -0.05116 0.00087 -0.05348 -2.77778E-006 -0.05556 C -0.00087 -0.0581 -0.0026 -0.05973 -0.00347 -0.06227 C -0.00503 -0.06713 -0.00538 -0.07269 -0.00677 -0.07778 C -0.00573 -0.08426 -0.00573 -0.09098 -0.00173 -0.0956 C 0.00122 -0.09908 0.00556 -0.10047 0.00834 -0.1044 C 0.0099 -0.10672 0.01111 -0.10949 0.0132 -0.11111 C 0.01667 -0.11389 0.02136 -0.11297 0.025 -0.11551 C 0.03629 -0.12315 0.02257 -0.11736 0.03663 -0.12223 C 0.05 -0.1213 0.06459 -0.12593 0.07657 -0.11783 C 0.09098 -0.1081 0.06441 -0.11806 0.08663 -0.11111 C 0.09427 -0.0956 0.09184 -0.10278 0.09497 -0.09098 C 0.09427 -0.07824 0.09653 -0.06412 0.09167 -0.05324 C 0.08854 -0.0463 0.0816 -0.04514 0.07657 -0.04213 C 0.06216 -0.03357 0.04879 -0.01968 0.03334 -0.01551 C 0.02431 -0.00973 0.01632 -0.00672 0.0066 -0.0044 C 0.00104 0.00046 0.00365 7.40741E-007 -2.77778E-006 7.40741E-007 E">
                                      <p:cBhvr>
                                        <p:cTn id="10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bugbog.com/images/galleries/russia_pictures/russia_pictures_door.jpg"/>
          <p:cNvPicPr/>
          <p:nvPr/>
        </p:nvPicPr>
        <p:blipFill>
          <a:blip r:embed="rId3"/>
          <a:stretch/>
        </p:blipFill>
        <p:spPr>
          <a:xfrm rot="20713200">
            <a:off x="304920" y="1676160"/>
            <a:ext cx="2981160" cy="1987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057400" y="380880"/>
            <a:ext cx="45720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ctures of Russi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6" descr="http://t0.gstatic.com/images?q=tbn:C-J8fZYhz3QvyM:">
            <a:hlinkClick r:id="rId4"/>
          </p:cNvPr>
          <p:cNvPicPr/>
          <p:nvPr/>
        </p:nvPicPr>
        <p:blipFill>
          <a:blip r:embed="rId5"/>
          <a:stretch/>
        </p:blipFill>
        <p:spPr>
          <a:xfrm rot="892800">
            <a:off x="6095520" y="1066320"/>
            <a:ext cx="2278080" cy="510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t3.gstatic.com/images?q=tbn:vS0nfjQiHHezBM:"/>
          <p:cNvPicPr/>
          <p:nvPr/>
        </p:nvPicPr>
        <p:blipFill>
          <a:blip r:embed="rId6"/>
          <a:stretch/>
        </p:blipFill>
        <p:spPr>
          <a:xfrm rot="21177600">
            <a:off x="1219320" y="3809520"/>
            <a:ext cx="2681280" cy="284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external image russia.jpg"/>
          <p:cNvPicPr/>
          <p:nvPr/>
        </p:nvPicPr>
        <p:blipFill>
          <a:blip r:embed="rId7"/>
          <a:stretch/>
        </p:blipFill>
        <p:spPr>
          <a:xfrm>
            <a:off x="3962520" y="182880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02:06Z</dcterms:created>
  <dc:creator>QPS</dc:creator>
  <dc:description/>
  <dc:language>en-US</dc:language>
  <cp:lastModifiedBy> </cp:lastModifiedBy>
  <dcterms:modified xsi:type="dcterms:W3CDTF">2010-12-20T17:18:49Z</dcterms:modified>
  <cp:revision>4</cp:revision>
  <dc:subject/>
  <dc:title>Slide 1</dc:title>
</cp:coreProperties>
</file>